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5332-5828-4FB3-8FD7-2DE197E40DD2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/17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76120" y="1571760"/>
            <a:ext cx="50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P TERMINALS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6560" y="824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honetage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20640"/>
            <a:ext cx="5438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minist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4365720"/>
            <a:ext cx="37450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1. User ID &amp; Passwor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. enter User ID &amp; 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Select Profile for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. registration new Pro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OK After changing Connect the Syste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2880000" cy="1262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37602" t="42404" r="31102" b="33333"/>
          <a:stretch/>
        </p:blipFill>
        <p:spPr>
          <a:xfrm>
            <a:off x="447840" y="2781360"/>
            <a:ext cx="3495600" cy="1598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9640" y="4734000"/>
            <a:ext cx="2898720" cy="1454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211640" y="1484280"/>
            <a:ext cx="4321080" cy="263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5280" y="2492280"/>
            <a:ext cx="169560" cy="249480"/>
          </a:xfrm>
          <a:prstGeom prst="downArrow">
            <a:avLst>
              <a:gd name="adj1" fmla="val 50000"/>
              <a:gd name="adj2" fmla="val 3678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4427640"/>
            <a:ext cx="169560" cy="249120"/>
          </a:xfrm>
          <a:prstGeom prst="downArrow">
            <a:avLst>
              <a:gd name="adj1" fmla="val 50000"/>
              <a:gd name="adj2" fmla="val 3673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8320" y="8244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dmin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413000"/>
            <a:ext cx="314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045040"/>
            <a:ext cx="6324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VOIB SLOT ASSIGNMENT for RSG/IP Phone   (PGM 38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IP Phone Port Number ASSIGNMENT   (PGM 381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LOGICAL ASSIGNMENT   (PGM 103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83664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Setting - VOIB Slot /  Channel for IP PHONE &amp; Phonet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79360" y="4724280"/>
            <a:ext cx="391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et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2895480"/>
            <a:ext cx="1218960" cy="462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19659" t="12932" r="17580" b="42824"/>
          <a:stretch/>
        </p:blipFill>
        <p:spPr>
          <a:xfrm>
            <a:off x="3780000" y="1916280"/>
            <a:ext cx="5227560" cy="280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21722" t="11734" r="44051" b="33759"/>
          <a:stretch/>
        </p:blipFill>
        <p:spPr>
          <a:xfrm>
            <a:off x="506520" y="1895400"/>
            <a:ext cx="3260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9659" t="11777" r="899" b="35378"/>
          <a:stretch/>
        </p:blipFill>
        <p:spPr>
          <a:xfrm>
            <a:off x="474840" y="1700280"/>
            <a:ext cx="5895720" cy="2025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8320" y="8244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dmin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5850000"/>
            <a:ext cx="67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et Programming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IP Phone ATTRIBUTE 1  (PGM 386)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649440" y="3112920"/>
            <a:ext cx="1066680" cy="28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476000" y="2133720"/>
            <a:ext cx="5040360" cy="93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76500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Register the LIP / Phonet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31640" y="1197000"/>
            <a:ext cx="345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19746" t="11461" r="929" b="35187"/>
          <a:stretch/>
        </p:blipFill>
        <p:spPr>
          <a:xfrm>
            <a:off x="466560" y="3860640"/>
            <a:ext cx="5905800" cy="2024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303200" y="5392800"/>
            <a:ext cx="10670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00240" y="5392800"/>
            <a:ext cx="1067040" cy="2872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43280" y="47973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07640" y="4797360"/>
            <a:ext cx="863640" cy="576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797360"/>
            <a:ext cx="863640" cy="576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6516720" y="1803600"/>
            <a:ext cx="2340000" cy="1055160"/>
          </a:xfrm>
          <a:prstGeom prst="roundRect">
            <a:avLst>
              <a:gd name="adj" fmla="val 50000"/>
            </a:avLst>
          </a:prstGeom>
          <a:solidFill>
            <a:srgbClr val="0017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돋움"/>
              </a:rPr>
              <a:t>IP-Phone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돋움"/>
              </a:rPr>
              <a:t>Only need MAC Addr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4324680"/>
            <a:ext cx="2340000" cy="1055160"/>
          </a:xfrm>
          <a:prstGeom prst="roundRect">
            <a:avLst>
              <a:gd name="adj" fmla="val 50000"/>
            </a:avLst>
          </a:prstGeom>
          <a:solidFill>
            <a:srgbClr val="00176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돋움"/>
              </a:rPr>
              <a:t>Phonetage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ffffff"/>
                </a:solidFill>
                <a:latin typeface="Arial"/>
                <a:ea typeface="돋움"/>
              </a:rPr>
              <a:t>Only need ID &amp;Passw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8200" y="9216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Installation Proced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620640"/>
            <a:ext cx="7238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P Phone Installation Procedure on MPB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57360" y="1360440"/>
            <a:ext cx="71485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Insert the following boards into the ipLDK-60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VOI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Power on the system (All switches of MPB are set to ON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t the 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P-switch to OFF to preserve the programming dat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t the admin station (100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nter the “99” on STA Board in PGM 103/BTN 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“99” means virtual slot for RSG/IP Phon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Reset the system for board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Enter the VO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ot to be used for RSG/IP Phone in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GM 380/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Btn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) Enter VOIB channel to be used for RSG/IP Phone in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PGM 380/Btn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Enter the IP Phone No. in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GM 38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Reset the system for board 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Re-enter the admin programming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Enter the MAC ID in PGM 386 (or User ID &amp; Password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nter the IP Address and Gateway of VOIB in PGM 340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Reset the IP Ph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* If the IP Phone No in PGM 381 or VOIB channel number in PGM 380/Btn2 is changed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ystem should be reset for board reconfigur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1125360"/>
            <a:ext cx="314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5084640"/>
            <a:ext cx="40309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VOIB Mode Select for SIP/Dual (PGM 34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 Line Type Selection for SI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(PGM 322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83664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 - VOIB Mode /  CO Channel for SI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101520" y="824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IP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3190" t="12536" r="6262" b="12728"/>
          <a:stretch/>
        </p:blipFill>
        <p:spPr>
          <a:xfrm>
            <a:off x="468360" y="1628640"/>
            <a:ext cx="3960720" cy="4268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26619" t="14022" r="16718" b="34074"/>
          <a:stretch/>
        </p:blipFill>
        <p:spPr>
          <a:xfrm>
            <a:off x="4665600" y="1792440"/>
            <a:ext cx="4154400" cy="280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92120" y="4548240"/>
            <a:ext cx="1440000" cy="288720"/>
          </a:xfrm>
          <a:prstGeom prst="ellipse">
            <a:avLst/>
          </a:prstGeom>
          <a:noFill/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524720" y="2432160"/>
            <a:ext cx="432000" cy="358560"/>
          </a:xfrm>
          <a:prstGeom prst="ellipse">
            <a:avLst/>
          </a:prstGeom>
          <a:noFill/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1125360"/>
            <a:ext cx="314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5229360"/>
            <a:ext cx="73436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Setting SIP Proxy Server / Domain Serv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Setting SIP User Registrations (User ID, Registrations, Related Stations, …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83664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 – SIP Attribut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01520" y="824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IP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21885" t="11963" r="35943" b="37571"/>
          <a:stretch/>
        </p:blipFill>
        <p:spPr>
          <a:xfrm>
            <a:off x="395280" y="1628640"/>
            <a:ext cx="3457440" cy="3202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19646" t="11863" r="6173" b="25159"/>
          <a:stretch/>
        </p:blipFill>
        <p:spPr>
          <a:xfrm>
            <a:off x="3924360" y="1635120"/>
            <a:ext cx="50418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9080" y="8244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IP Admin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76500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 Related Sta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125360"/>
            <a:ext cx="345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25642" t="22569" r="15976" b="20376"/>
          <a:stretch/>
        </p:blipFill>
        <p:spPr>
          <a:xfrm>
            <a:off x="324000" y="1628640"/>
            <a:ext cx="6480000" cy="3522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39640" y="5445000"/>
            <a:ext cx="554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Registration SIP User Table for SIP Attribute-2 (PGM 111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4437000"/>
            <a:ext cx="2232000" cy="331920"/>
          </a:xfrm>
          <a:prstGeom prst="ellipse">
            <a:avLst/>
          </a:prstGeom>
          <a:noFill/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9080" y="8244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SIP Admin Program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765000"/>
            <a:ext cx="6934320" cy="457200"/>
          </a:xfrm>
          <a:prstGeom prst="rect">
            <a:avLst/>
          </a:prstGeom>
          <a:gradFill rotWithShape="0">
            <a:gsLst>
              <a:gs pos="0">
                <a:srgbClr val="ca96b0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SIP CO set Enblock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1125360"/>
            <a:ext cx="345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Admin Programm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5516640"/>
            <a:ext cx="554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바탕체"/>
              </a:rPr>
              <a:t>Set SIP related CO enable mode (PGM 143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21822" t="11734" r="9313" b="35674"/>
          <a:stretch/>
        </p:blipFill>
        <p:spPr>
          <a:xfrm>
            <a:off x="611280" y="1700280"/>
            <a:ext cx="7272360" cy="3457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19280" y="4365720"/>
            <a:ext cx="2881440" cy="403200"/>
          </a:xfrm>
          <a:prstGeom prst="ellipse">
            <a:avLst/>
          </a:prstGeom>
          <a:noFill/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4984920" y="2305080"/>
            <a:ext cx="1223640" cy="619200"/>
          </a:xfrm>
          <a:prstGeom prst="ellipse">
            <a:avLst/>
          </a:prstGeom>
          <a:noFill/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44720" y="1773360"/>
            <a:ext cx="36720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Network Configur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Appearance &amp; Featur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IP Phone Administrato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ft Phone Administrato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min Programm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tallation Procedur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P Administrator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15920" y="96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360" y="968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59360" y="9079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Remote M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289160"/>
            <a:ext cx="6019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P-6030D, LIP-6012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84280"/>
            <a:ext cx="403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IP ToS,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 802.1p/Q, DiffServ Pretagg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58640" y="20034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체"/>
              </a:rPr>
              <a:t>QoS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59720" y="300672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387600"/>
            <a:ext cx="3352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IPSec (DES/3DES, MD5/SHA-1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59720" y="399744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NAPT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378320"/>
            <a:ext cx="5257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IPKTS STUN, UDP Encapsulation of IPSec Packe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59720" y="498780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체"/>
              </a:rPr>
              <a:t>Network Environment Related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369040"/>
            <a:ext cx="495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돋움체"/>
              </a:rPr>
              <a:t>PPPoE,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Arial"/>
              </a:rPr>
              <a:t>DHCP Cli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760" y="9216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Network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28760" y="692280"/>
            <a:ext cx="3124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Configu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74680" y="2124000"/>
            <a:ext cx="2819520" cy="3353040"/>
          </a:xfrm>
          <a:prstGeom prst="ellipse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56000" y="3290760"/>
            <a:ext cx="1523520" cy="1218960"/>
            <a:chOff x="3456000" y="3290760"/>
            <a:chExt cx="1523520" cy="1218960"/>
          </a:xfrm>
        </p:grpSpPr>
        <p:sp>
          <p:nvSpPr>
            <p:cNvPr id="66" name=""/>
            <p:cNvSpPr/>
            <p:nvPr/>
          </p:nvSpPr>
          <p:spPr>
            <a:xfrm>
              <a:off x="3928320" y="3328560"/>
              <a:ext cx="374040" cy="4071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4680" y="3290760"/>
              <a:ext cx="303840" cy="3351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06120" y="3624840"/>
              <a:ext cx="473400" cy="5166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24120" y="3846600"/>
              <a:ext cx="540360" cy="59004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70400" y="3922200"/>
              <a:ext cx="404640" cy="43848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2000" y="3957480"/>
              <a:ext cx="299880" cy="33012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56000" y="3696480"/>
              <a:ext cx="303840" cy="33408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1360" y="3404160"/>
              <a:ext cx="473400" cy="5151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97440" y="3995280"/>
              <a:ext cx="472680" cy="51444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0920" y="3439440"/>
              <a:ext cx="371880" cy="4068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72280" y="3290760"/>
              <a:ext cx="336600" cy="37044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77680" y="3387240"/>
              <a:ext cx="1314000" cy="964440"/>
            </a:xfrm>
            <a:custGeom>
              <a:avLst/>
              <a:gdLst/>
              <a:ahLst/>
              <a:rect l="l" t="t" r="r" b="b"/>
              <a:pathLst>
                <a:path w="1240" h="739">
                  <a:moveTo>
                    <a:pt x="382" y="73"/>
                  </a:moveTo>
                  <a:lnTo>
                    <a:pt x="435" y="22"/>
                  </a:lnTo>
                  <a:lnTo>
                    <a:pt x="666" y="24"/>
                  </a:lnTo>
                  <a:lnTo>
                    <a:pt x="828" y="0"/>
                  </a:lnTo>
                  <a:lnTo>
                    <a:pt x="1036" y="89"/>
                  </a:lnTo>
                  <a:lnTo>
                    <a:pt x="1139" y="64"/>
                  </a:lnTo>
                  <a:lnTo>
                    <a:pt x="1196" y="73"/>
                  </a:lnTo>
                  <a:lnTo>
                    <a:pt x="1207" y="293"/>
                  </a:lnTo>
                  <a:lnTo>
                    <a:pt x="1240" y="329"/>
                  </a:lnTo>
                  <a:lnTo>
                    <a:pt x="1144" y="499"/>
                  </a:lnTo>
                  <a:lnTo>
                    <a:pt x="1040" y="381"/>
                  </a:lnTo>
                  <a:lnTo>
                    <a:pt x="1012" y="440"/>
                  </a:lnTo>
                  <a:lnTo>
                    <a:pt x="865" y="674"/>
                  </a:lnTo>
                  <a:lnTo>
                    <a:pt x="376" y="739"/>
                  </a:lnTo>
                  <a:lnTo>
                    <a:pt x="121" y="692"/>
                  </a:lnTo>
                  <a:lnTo>
                    <a:pt x="39" y="549"/>
                  </a:lnTo>
                  <a:lnTo>
                    <a:pt x="39" y="400"/>
                  </a:lnTo>
                  <a:lnTo>
                    <a:pt x="0" y="275"/>
                  </a:lnTo>
                  <a:lnTo>
                    <a:pt x="382" y="73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61560" y="54910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7703"/>
                </a:solidFill>
                <a:latin typeface="Arial"/>
              </a:rPr>
              <a:t>Main Off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740400" y="36720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돋움체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13400" y="4371840"/>
            <a:ext cx="450720" cy="2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98880" y="528624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  <a:ea typeface="돋움체"/>
              </a:rPr>
              <a:t>IP Ph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827600" y="4114800"/>
            <a:ext cx="68580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665680" y="3733920"/>
            <a:ext cx="2971800" cy="2071440"/>
          </a:xfrm>
          <a:prstGeom prst="ellipse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0800" y="5908680"/>
            <a:ext cx="202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체"/>
              </a:rPr>
              <a:t>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체"/>
              </a:rPr>
              <a:t>ISP:Internet Service Provid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970600" y="4524480"/>
            <a:ext cx="2424240" cy="144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808680" y="4524480"/>
            <a:ext cx="1800" cy="1699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7647120" y="4524480"/>
            <a:ext cx="0" cy="15228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4960800" y="18288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Verdana"/>
                <a:ea typeface="돋움체"/>
              </a:rPr>
              <a:t>Phonet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429960" y="57913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Remote Si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" descr="ThinkPad 240"/>
          <p:cNvPicPr/>
          <p:nvPr/>
        </p:nvPicPr>
        <p:blipFill>
          <a:blip r:embed="rId2"/>
          <a:stretch/>
        </p:blipFill>
        <p:spPr>
          <a:xfrm>
            <a:off x="5513400" y="2286000"/>
            <a:ext cx="576360" cy="46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73120" y="336708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le-Worker / Biz-Travel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13400" y="3276720"/>
            <a:ext cx="450720" cy="257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4903920" y="3428640"/>
            <a:ext cx="60948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5742000" y="2743200"/>
            <a:ext cx="0" cy="53352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903920" y="1143000"/>
            <a:ext cx="3733560" cy="2209680"/>
          </a:xfrm>
          <a:prstGeom prst="ellipse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465280" y="3724200"/>
            <a:ext cx="451080" cy="2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41400" y="439884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922480" y="3876840"/>
            <a:ext cx="5288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27200" y="41698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149560" y="3884760"/>
            <a:ext cx="3157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52560" y="4387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32120" y="4387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398600" y="4387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41600" y="4387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966960" y="2478240"/>
            <a:ext cx="1366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77880" y="4581360"/>
            <a:ext cx="555840" cy="416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119320" y="4597560"/>
            <a:ext cx="555480" cy="41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1111320" y="4508640"/>
            <a:ext cx="503280" cy="43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679320" y="4508640"/>
            <a:ext cx="50328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6237360" y="1557360"/>
            <a:ext cx="18730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310440" y="4738680"/>
            <a:ext cx="792000" cy="490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7245360" y="4738680"/>
            <a:ext cx="79200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960" y="9216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ppearance &amp; Fea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633680" y="558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IP-6012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633680" y="3340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LIP-6030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1676520"/>
            <a:ext cx="49975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[Network Service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oS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802.1p/Q, IP To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s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DHCP, HTTP, TFTP, FTP, DNS, Tel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IPSe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[Audio Service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ice Codec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G.711, G.723.1, G.72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ice Handling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Echo Cancellation, Voice Activity Detection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lence Suppression, Comfort Noise Generation, Error Conceal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 Phone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Full Duple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[H/W Feature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CD Display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3 x 24 L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t-in Headset Jack, Desk/Wall Mou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Feeding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: 48V AC/DC Adaptor or Po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t-in Ethernet Switc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[Operation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ler ID / Caller Information Look-up / Call Log Call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돋움"/>
              </a:rPr>
              <a:t>Call Transfer / Forward /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Hold / Park / Pick-up /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돋움"/>
              </a:rPr>
              <a:t>Mute /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돋움"/>
              </a:rPr>
              <a:t>Redial / Message / Speed Dial / Memory Dial, et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907920"/>
            <a:ext cx="3505320" cy="360360"/>
          </a:xfrm>
          <a:prstGeom prst="rect">
            <a:avLst/>
          </a:prstGeom>
          <a:gradFill rotWithShape="0">
            <a:gsLst>
              <a:gs pos="0">
                <a:srgbClr val="c184a2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LIP 6000 Series -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LIP6030D" descr=""/>
          <p:cNvPicPr/>
          <p:nvPr/>
        </p:nvPicPr>
        <p:blipFill>
          <a:blip r:embed="rId1"/>
          <a:stretch/>
        </p:blipFill>
        <p:spPr>
          <a:xfrm>
            <a:off x="1143000" y="1498680"/>
            <a:ext cx="2228760" cy="1854000"/>
          </a:xfrm>
          <a:prstGeom prst="rect">
            <a:avLst/>
          </a:prstGeom>
          <a:ln w="0">
            <a:noFill/>
          </a:ln>
        </p:spPr>
      </p:pic>
      <p:pic>
        <p:nvPicPr>
          <p:cNvPr id="119" name="LIP6012D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1520" y="1341360"/>
            <a:ext cx="61056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16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All Features can be used like LIP-24D/D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16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Remote Connection for Worldwide Connectiv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16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Voice Codecs : G.711, G.723 (Voic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160b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Display Mode : Phone, Keyset, Calendar &amp; Keypad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765000"/>
            <a:ext cx="3504960" cy="360360"/>
          </a:xfrm>
          <a:prstGeom prst="rect">
            <a:avLst/>
          </a:prstGeom>
          <a:gradFill rotWithShape="0">
            <a:gsLst>
              <a:gs pos="0">
                <a:srgbClr val="c184a2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honetage - Featur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76400" y="8244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Appearance &amp; Fea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709720"/>
            <a:ext cx="4321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7080" y="9216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LIP 6000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65000"/>
            <a:ext cx="5438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 Phone Administ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222200"/>
            <a:ext cx="69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Menu mode waiting for user input for connection environment follows after Searching VOIB fails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84320"/>
            <a:ext cx="69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et Menu or Retry Searching VOIB ?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679400"/>
            <a:ext cx="68580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Entrance of Connection Environment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203640"/>
            <a:ext cx="6934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Connection Environment Men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508200"/>
            <a:ext cx="518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Press ‘*’ button and step into connection environment progress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To go to Next / Previous Step, press [UP/DOWN] key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6920" y="2289240"/>
            <a:ext cx="2501640" cy="711000"/>
            <a:chOff x="466920" y="2289240"/>
            <a:chExt cx="2501640" cy="71100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97160" y="228924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66920" y="2334960"/>
              <a:ext cx="250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 RESPONSE FROM MFIM[ L 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9480" y="2669760"/>
              <a:ext cx="17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T[ * ]  –  RETRY[ # 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" y="4118040"/>
            <a:ext cx="69343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 Remot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4467240"/>
            <a:ext cx="273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Change Mode to Remot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" y="4803840"/>
            <a:ext cx="2419200" cy="711000"/>
            <a:chOff x="457200" y="4803840"/>
            <a:chExt cx="2419200" cy="71100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57200" y="480384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8640" y="484992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 [R / L] ?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280" y="518472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REMOTE] – CHANGE[ # 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124080" y="4879800"/>
            <a:ext cx="4184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  <a:ea typeface="돋움"/>
              </a:rPr>
              <a:t>Press ‘#’ for change Local / Remote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ipLDK system supports only Remot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0160" y="792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LIP 6000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117440"/>
            <a:ext cx="3962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2c00"/>
                </a:solidFill>
                <a:latin typeface="Arial"/>
              </a:rPr>
              <a:t>2.1.1 PHONE IP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371600"/>
            <a:ext cx="365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et the IP address of Phone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676520"/>
            <a:ext cx="2419200" cy="711000"/>
            <a:chOff x="380880" y="1676520"/>
            <a:chExt cx="2419200" cy="711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80880" y="167652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2320" y="172260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NE IP ADDRESS (DOT: * 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9960" y="205740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218.148.20.27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920" y="2666880"/>
            <a:ext cx="396216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2c00"/>
                </a:solidFill>
                <a:latin typeface="Arial"/>
              </a:rPr>
              <a:t>2.1.2 NETWORK ADDRESS M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971800"/>
            <a:ext cx="388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et network address mas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80880" y="3276720"/>
            <a:ext cx="2419200" cy="711000"/>
            <a:chOff x="380880" y="3276720"/>
            <a:chExt cx="2419200" cy="7110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380880" y="327672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82320" y="332280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NE NET MASK (DOT: * 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960" y="365760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255.255.255.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0880" y="4191120"/>
            <a:ext cx="38862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2c00"/>
                </a:solidFill>
                <a:latin typeface="Arial"/>
              </a:rPr>
              <a:t>2.1.3 NETWORK ROUTER IP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57200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et network router IP address (Gateway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7200" y="4952880"/>
            <a:ext cx="2419200" cy="711000"/>
            <a:chOff x="457200" y="4952880"/>
            <a:chExt cx="2419200" cy="71100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8640" y="499896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UTER IP ADDRESS (DOT:*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6280" y="533376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218.148.20.3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876920" y="1117440"/>
            <a:ext cx="38862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62c00"/>
                </a:solidFill>
                <a:latin typeface="Arial"/>
              </a:rPr>
              <a:t>2.1.4 MFIM IP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371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c00"/>
                </a:solidFill>
                <a:latin typeface="Arial"/>
                <a:ea typeface="돋움"/>
              </a:rPr>
              <a:t>Set the IP address of VOIB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971960" y="1676520"/>
            <a:ext cx="2419200" cy="711000"/>
            <a:chOff x="4971960" y="1676520"/>
            <a:chExt cx="2419200" cy="71100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4971960" y="167652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973400" y="172260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FIM IP ADDRESS (DOT: * 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91040" y="205740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150.150.150.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952880" y="2666880"/>
            <a:ext cx="38102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5 DEVICE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971800"/>
            <a:ext cx="320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돋움"/>
              </a:rPr>
              <a:t>Not Used with ipLDK system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71960" y="3276720"/>
            <a:ext cx="2419200" cy="711000"/>
            <a:chOff x="4971960" y="3276720"/>
            <a:chExt cx="2419200" cy="71100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4971960" y="327672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973400" y="332280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 DEVICE NUMBER :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91040" y="3657600"/>
              <a:ext cx="237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952880" y="4191120"/>
            <a:ext cx="38102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6 USER I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4495680"/>
            <a:ext cx="38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ISP authoriza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029200" y="4851360"/>
            <a:ext cx="2419200" cy="711000"/>
            <a:chOff x="5029200" y="4851360"/>
            <a:chExt cx="2419200" cy="711000"/>
          </a:xfrm>
        </p:grpSpPr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029200" y="485136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030640" y="489744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ID :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8280" y="5232240"/>
              <a:ext cx="237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560" y="8244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LIP 6000 Administ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143000"/>
            <a:ext cx="38862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7 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447920"/>
            <a:ext cx="426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ISP authorization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880" y="1752480"/>
            <a:ext cx="2419200" cy="711000"/>
            <a:chOff x="380880" y="1752480"/>
            <a:chExt cx="2419200" cy="71100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380880" y="175248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2320" y="179856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WORD :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960" y="2133360"/>
              <a:ext cx="237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80880" y="2717640"/>
            <a:ext cx="38102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2.1.8 PPPo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022560"/>
            <a:ext cx="373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Set the Network Service Connection Protoc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0880" y="3352680"/>
            <a:ext cx="2419200" cy="711000"/>
            <a:chOff x="380880" y="3352680"/>
            <a:chExt cx="2419200" cy="71100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380880" y="335268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82320" y="339876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Arial"/>
                </a:rPr>
                <a:t>PPPoE ?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960" y="3733560"/>
              <a:ext cx="237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DISABLED]  –  CHANGE [ # ]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0880" y="4267080"/>
            <a:ext cx="381024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9 DHC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572000"/>
            <a:ext cx="403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돋움"/>
              </a:rPr>
              <a:t>Dynamic IP assignment or not ?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돋움"/>
              </a:rPr>
              <a:t>If PPPoE is enabled then DHCP is enabled automaticall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80880" y="5181480"/>
            <a:ext cx="2419200" cy="711000"/>
            <a:chOff x="380880" y="5181480"/>
            <a:chExt cx="2419200" cy="71100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380880" y="5181480"/>
              <a:ext cx="241920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82320" y="5227560"/>
              <a:ext cx="239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?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9960" y="5562360"/>
              <a:ext cx="237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1960" y="5516640"/>
            <a:ext cx="22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ENABLED]  –  CHANGE [ # ]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143000"/>
            <a:ext cx="3733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10 V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1447920"/>
            <a:ext cx="3504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VLAN Tag Set or No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743200"/>
            <a:ext cx="373392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.11 WEB PASSWO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3048120"/>
            <a:ext cx="380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돋움"/>
              </a:rPr>
              <a:t>Web Page of Phone Access Password set or not ?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29200" y="1752480"/>
            <a:ext cx="2419200" cy="711000"/>
            <a:chOff x="5029200" y="1752480"/>
            <a:chExt cx="2419200" cy="711000"/>
          </a:xfrm>
        </p:grpSpPr>
        <p:grpSp>
          <p:nvGrpSpPr>
            <p:cNvPr id="204" name=""/>
            <p:cNvGrpSpPr/>
            <p:nvPr/>
          </p:nvGrpSpPr>
          <p:grpSpPr>
            <a:xfrm>
              <a:off x="5029200" y="1752480"/>
              <a:ext cx="2419200" cy="711000"/>
              <a:chOff x="5029200" y="1752480"/>
              <a:chExt cx="2419200" cy="711000"/>
            </a:xfrm>
          </p:grpSpPr>
          <p:pic>
            <p:nvPicPr>
              <p:cNvPr id="2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24192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5030640" y="1798560"/>
                <a:ext cx="239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VLAN CONFIGURATION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48280" y="2133360"/>
                <a:ext cx="237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065560" y="2082600"/>
              <a:ext cx="23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NOT SET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029200" y="3352680"/>
            <a:ext cx="2419200" cy="711000"/>
            <a:chOff x="5029200" y="3352680"/>
            <a:chExt cx="2419200" cy="711000"/>
          </a:xfrm>
        </p:grpSpPr>
        <p:grpSp>
          <p:nvGrpSpPr>
            <p:cNvPr id="210" name=""/>
            <p:cNvGrpSpPr/>
            <p:nvPr/>
          </p:nvGrpSpPr>
          <p:grpSpPr>
            <a:xfrm>
              <a:off x="5029200" y="3352680"/>
              <a:ext cx="2419200" cy="711000"/>
              <a:chOff x="5029200" y="3352680"/>
              <a:chExt cx="2419200" cy="711000"/>
            </a:xfrm>
          </p:grpSpPr>
          <p:pic>
            <p:nvPicPr>
              <p:cNvPr id="2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3352680"/>
                <a:ext cx="2419200" cy="7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030640" y="3398760"/>
                <a:ext cx="2397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B PASSWORD :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48280" y="3733560"/>
                <a:ext cx="237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065560" y="3682800"/>
              <a:ext cx="23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[NOT SET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Ho Lim</cp:lastModifiedBy>
  <dcterms:modified xsi:type="dcterms:W3CDTF">2007-01-25T04:13:39Z</dcterms:modified>
  <cp:revision>160</cp:revision>
  <dc:subject/>
  <dc:title>PowerPoint 프레젠테이션</dc:title>
</cp:coreProperties>
</file>